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DCE2-4576-47DA-8645-A52EACBB2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ABC5-CD4D-453A-A0F0-674F48429A05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9FE3-C5E9-483F-84FD-838903B9362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89E1-A370-4DD5-8208-63E07DECBDA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7325-493B-40D8-9ECE-EC38F5E6EE0B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980D-58EE-4AC7-A63D-41B40BAFFF19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83ED-D26B-4ECA-A41F-4350FDEB29C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B9CA-9EEF-4834-9711-E9BBB2109A2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A56B-2FB7-4B87-A304-86B3C19D49F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D1FF-2643-4CF9-A369-FD3C7AD579C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1CCD-6293-4C47-B419-05AA3D76B335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24D2-893E-4679-B7FA-1E80424E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B4D-A654-45EB-9638-009702B5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EAC4-8ABF-4687-BF22-48ADAEB5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EE12-373E-4970-BEF7-67F14954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52F5-A01C-4DE6-B64C-AA38E927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9291-591A-49AA-8875-8EC9EED8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CB41-AB09-4D3A-BE55-F77E4ACC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BBF2-FC36-42F8-BDFE-668C1D6D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5081-BC02-4ECE-894F-D1647B53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44C0-E26A-4887-8D78-8D0C09F9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7448-3A5E-40A6-B432-036FF69F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EC9-E509-4D5C-AD22-C23E17AD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7E42-D4F3-4160-AA99-5B7A61D8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BCC9-AB6B-4CF7-8688-F398FFA5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B729-4F95-4263-ADC4-0D6A28EE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42E4-326F-438E-99DF-5D2CF533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0C03-4B33-45BF-8FC0-7738E38E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700-515F-404E-86E5-4F6FE592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D8C-C9DD-4793-BA54-F5A30AC4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4D56-028C-43D6-94D4-BD70FF71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D76-E44C-460D-AD16-698B61BC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4F6-DD0B-4A17-A4C4-A34DF8F1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8B6C-8D35-47EF-B7D4-2906A607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FD0-D84D-4B3E-A6DF-2BA91EFC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E6DF-0F46-4E9E-ACE5-F978AC1D1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CBBD-3325-45BB-8E18-AED27BAF1211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ommunication/Grade/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eChalk Session x of y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Getting Going with eChalk Email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e will take the next 20 minutes to practice sending and replying to email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n we will come back together and shar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Get the email addresses of 2 students sitting near you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Practice &amp; </a:t>
            </a:r>
            <a:br>
              <a:rPr sz="4000"/>
            </a:b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Discover Some More Features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So far this year, what tech support have you given your teachers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12164"/>
                </a:solidFill>
                <a:uFillTx/>
                <a:latin typeface="Arial"/>
              </a:rPr>
              <a:t>Step 1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Answer that question in an email.  Send it to someone sitting near you.  Cc someone else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Before you send it, use the Rich Text Editor to change the font and appearance of the message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12164"/>
                </a:solidFill>
                <a:uFillTx/>
                <a:latin typeface="Arial"/>
              </a:rPr>
              <a:t>Step 2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Read the message you receive and forward it to someone else in the room. Use the Find Members feature to look up his/ her email address. Mark the message urgent. 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12164"/>
                </a:solidFill>
                <a:uFillTx/>
                <a:latin typeface="Arial"/>
              </a:rPr>
              <a:t>Step 3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Delete a message. 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you learn about writing and sending email in eChalk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other new discoveries did you make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support others in reading, writing, and replying to email?</a:t>
            </a:r>
            <a:br>
              <a:rPr sz="3200"/>
            </a:b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12164"/>
                </a:solidFill>
                <a:latin typeface="Arial"/>
              </a:rPr>
              <a:t>Today we will learn how to: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Read eChalk emai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Reply to eChalk emai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Write eChalk email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he Toolbar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Go to ‘school number.nycdoe.org’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When I login I see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What are these parts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of the toolbar about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159372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BD21298_"/>
          <p:cNvPicPr/>
          <p:nvPr/>
        </p:nvPicPr>
        <p:blipFill>
          <a:blip r:embed="rId2"/>
          <a:stretch/>
        </p:blipFill>
        <p:spPr>
          <a:xfrm flipH="1" rot="20018400">
            <a:off x="5866920" y="2971800"/>
            <a:ext cx="685800" cy="436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BD21298_"/>
          <p:cNvPicPr/>
          <p:nvPr/>
        </p:nvPicPr>
        <p:blipFill>
          <a:blip r:embed="rId3"/>
          <a:stretch/>
        </p:blipFill>
        <p:spPr>
          <a:xfrm flipH="1" rot="21093000">
            <a:off x="5943240" y="3581280"/>
            <a:ext cx="68580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he Inbox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o you know from this inbox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000840" cy="2847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BD21298_"/>
          <p:cNvPicPr/>
          <p:nvPr/>
        </p:nvPicPr>
        <p:blipFill>
          <a:blip r:embed="rId2"/>
          <a:stretch/>
        </p:blipFill>
        <p:spPr>
          <a:xfrm flipH="1" rot="18317400">
            <a:off x="7441920" y="330084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BD21298_"/>
          <p:cNvPicPr/>
          <p:nvPr/>
        </p:nvPicPr>
        <p:blipFill>
          <a:blip r:embed="rId3"/>
          <a:stretch/>
        </p:blipFill>
        <p:spPr>
          <a:xfrm flipH="1" rot="7089000">
            <a:off x="5537520" y="4519440"/>
            <a:ext cx="609480" cy="408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BD21298_"/>
          <p:cNvPicPr/>
          <p:nvPr/>
        </p:nvPicPr>
        <p:blipFill>
          <a:blip r:embed="rId4"/>
          <a:stretch/>
        </p:blipFill>
        <p:spPr>
          <a:xfrm flipH="1" rot="18317400">
            <a:off x="5460840" y="352944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BD21298_"/>
          <p:cNvPicPr/>
          <p:nvPr/>
        </p:nvPicPr>
        <p:blipFill>
          <a:blip r:embed="rId5"/>
          <a:stretch/>
        </p:blipFill>
        <p:spPr>
          <a:xfrm flipH="1" rot="3898800">
            <a:off x="3480480" y="4214880"/>
            <a:ext cx="609480" cy="408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BD21298_"/>
          <p:cNvPicPr/>
          <p:nvPr/>
        </p:nvPicPr>
        <p:blipFill>
          <a:blip r:embed="rId6"/>
          <a:stretch/>
        </p:blipFill>
        <p:spPr>
          <a:xfrm flipH="1" rot="5887200">
            <a:off x="2642040" y="4672800"/>
            <a:ext cx="609480" cy="40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BD21298_"/>
          <p:cNvPicPr/>
          <p:nvPr/>
        </p:nvPicPr>
        <p:blipFill>
          <a:blip r:embed="rId7"/>
          <a:stretch/>
        </p:blipFill>
        <p:spPr>
          <a:xfrm flipH="1" rot="13264200">
            <a:off x="2209320" y="3581280"/>
            <a:ext cx="609840" cy="407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BD21298_"/>
          <p:cNvPicPr/>
          <p:nvPr/>
        </p:nvPicPr>
        <p:blipFill>
          <a:blip r:embed="rId8"/>
          <a:stretch/>
        </p:blipFill>
        <p:spPr>
          <a:xfrm flipH="1" rot="3961200">
            <a:off x="4927680" y="566316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BD21298_"/>
          <p:cNvPicPr/>
          <p:nvPr/>
        </p:nvPicPr>
        <p:blipFill>
          <a:blip r:embed="rId9"/>
          <a:stretch/>
        </p:blipFill>
        <p:spPr>
          <a:xfrm flipH="1" rot="2649600">
            <a:off x="7238520" y="5257440"/>
            <a:ext cx="6098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Opening a messag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on the subject to open the email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ext Step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ich shoul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you choos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733920" y="2971800"/>
            <a:ext cx="5105160" cy="3579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BD21298_"/>
          <p:cNvPicPr/>
          <p:nvPr/>
        </p:nvPicPr>
        <p:blipFill>
          <a:blip r:embed="rId2"/>
          <a:stretch/>
        </p:blipFill>
        <p:spPr>
          <a:xfrm flipH="1" rot="18115800">
            <a:off x="5460840" y="2768040"/>
            <a:ext cx="609840" cy="407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BD21298_"/>
          <p:cNvPicPr/>
          <p:nvPr/>
        </p:nvPicPr>
        <p:blipFill>
          <a:blip r:embed="rId3"/>
          <a:stretch/>
        </p:blipFill>
        <p:spPr>
          <a:xfrm flipH="1" rot="15805200">
            <a:off x="4470480" y="269172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BD21298_"/>
          <p:cNvPicPr/>
          <p:nvPr/>
        </p:nvPicPr>
        <p:blipFill>
          <a:blip r:embed="rId4"/>
          <a:stretch/>
        </p:blipFill>
        <p:spPr>
          <a:xfrm flipH="1" rot="13266000">
            <a:off x="3504600" y="274320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BD21298_"/>
          <p:cNvPicPr/>
          <p:nvPr/>
        </p:nvPicPr>
        <p:blipFill>
          <a:blip r:embed="rId5"/>
          <a:stretch/>
        </p:blipFill>
        <p:spPr>
          <a:xfrm flipH="1" rot="9147000">
            <a:off x="3199320" y="4342680"/>
            <a:ext cx="60948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ry It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64"/>
                </a:solidFill>
                <a:latin typeface="Arial"/>
              </a:rPr>
              <a:t>Login to eChalk.</a:t>
            </a: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64"/>
                </a:solidFill>
                <a:latin typeface="Arial"/>
              </a:rPr>
              <a:t>What is in your inbox?</a:t>
            </a: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64"/>
                </a:solidFill>
                <a:latin typeface="Arial"/>
              </a:rPr>
              <a:t>Reply to the message in your inbox.</a:t>
            </a: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64"/>
                </a:solidFill>
                <a:latin typeface="Arial"/>
              </a:rPr>
              <a:t>What do you see on:</a:t>
            </a: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64"/>
                </a:solidFill>
                <a:latin typeface="Arial"/>
              </a:rPr>
              <a:t>the To: line?</a:t>
            </a: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64"/>
                </a:solidFill>
                <a:latin typeface="Arial"/>
              </a:rPr>
              <a:t>the Subject: line?</a:t>
            </a: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64"/>
                </a:solidFill>
                <a:latin typeface="Arial"/>
              </a:rPr>
              <a:t>the body of the email</a:t>
            </a: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64"/>
                </a:solidFill>
                <a:latin typeface="Arial"/>
              </a:rPr>
              <a:t>Send it!</a:t>
            </a: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rite a New Messag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057400" y="1430280"/>
            <a:ext cx="6781680" cy="3598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04920" y="1828800"/>
            <a:ext cx="129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Go to Write Mai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4" name="Picture 5" descr="BD21298_"/>
          <p:cNvPicPr/>
          <p:nvPr/>
        </p:nvPicPr>
        <p:blipFill>
          <a:blip r:embed="rId2"/>
          <a:stretch/>
        </p:blipFill>
        <p:spPr>
          <a:xfrm flipH="1" rot="9147000">
            <a:off x="1446840" y="2285280"/>
            <a:ext cx="609480" cy="407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228600" y="4800600"/>
            <a:ext cx="46483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Think about: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  <a:ea typeface="ＭＳ Ｐゴシック"/>
              </a:rPr>
              <a:t>Is there anyone I need to Cc? Bcc?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  <a:ea typeface="ＭＳ Ｐゴシック"/>
              </a:rPr>
              <a:t>What makes a good Subject line?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85800" y="3294000"/>
            <a:ext cx="1371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Fill in the To lin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181480" y="5241960"/>
            <a:ext cx="365760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Did I spell check it?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Is the message urgent?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8" name="Picture 9" descr="BD21298_"/>
          <p:cNvPicPr/>
          <p:nvPr/>
        </p:nvPicPr>
        <p:blipFill>
          <a:blip r:embed="rId3"/>
          <a:stretch/>
        </p:blipFill>
        <p:spPr>
          <a:xfrm flipH="1" rot="9147000">
            <a:off x="1676160" y="2895120"/>
            <a:ext cx="1981080" cy="408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BD21298_"/>
          <p:cNvPicPr/>
          <p:nvPr/>
        </p:nvPicPr>
        <p:blipFill>
          <a:blip r:embed="rId4"/>
          <a:stretch/>
        </p:blipFill>
        <p:spPr>
          <a:xfrm flipH="1" rot="18175200">
            <a:off x="4775760" y="1319760"/>
            <a:ext cx="609480" cy="408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BD21298_"/>
          <p:cNvPicPr/>
          <p:nvPr/>
        </p:nvPicPr>
        <p:blipFill>
          <a:blip r:embed="rId5"/>
          <a:stretch/>
        </p:blipFill>
        <p:spPr>
          <a:xfrm flipH="1" rot="8331600">
            <a:off x="5943240" y="3706200"/>
            <a:ext cx="60948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2</cp:lastModifiedBy>
  <dcterms:modified xsi:type="dcterms:W3CDTF">2007-02-05T12:33:03Z</dcterms:modified>
  <cp:revision>22</cp:revision>
  <dc:subject/>
  <dc:title>Workshop Title</dc:title>
</cp:coreProperties>
</file>